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105B-2BCE-42EA-AB0A-5943F830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5B0B-D253-477C-A806-BA0DD70B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C484-6B6A-4684-BF09-732A7374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0E4D-B254-48E8-8E1F-1C385D5A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02D5-C987-478F-84A9-7B68C37C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CDAF-B363-47A2-BED8-7ED46F26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817F-776A-4D4F-B8FE-1A6B06D3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2991-9970-444D-95EF-B852C500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38A3-1C1C-4731-92FE-1E183BE3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5ACD-BFC0-4DBB-89D1-45EEC463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8B64-BFCB-4219-B186-B49800DE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B2BD-295F-4926-A301-2FA9D3DF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CD45-43EE-4EDB-A26B-3E017CBB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3AB5-3697-4954-B68A-3EE6636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5B5B-F410-458F-840C-3932E273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1C97-2B9E-4D06-8597-ECD75F35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6619-1E75-4F75-8944-93861304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3E62E-9C84-46F9-8E3C-241911E0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CFCF-F3C9-4EFF-BE45-74A999D8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072A-EEA7-44C7-A6C5-91BC577F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024A-6242-4184-B48B-E3F5931C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4367-52AF-4D2A-A0D5-5903C1D2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B8A7-7B32-4D2F-B6AE-9B632BB6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DC7C-D9B3-420F-8FED-F4DA812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FC1E-52A0-4037-9679-833A14943B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EC65-B81F-4FC8-87BE-EAB9A5854A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../Documents%20and%20Settings/Desktop/Maths%20ITP/placevalue_pc.EXE" TargetMode="External"/><Relationship Id="rId2" Type="http://schemas.openxmlformats.org/officeDocument/2006/relationships/hyperlink" Target="file:///../../../Documents%20and%20Settings/Desktop/Maths%20ITP/placevalue_pc.EX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16000" y="1413000"/>
            <a:ext cx="71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125360"/>
            <a:ext cx="784872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o be able to use partitioning to double or halve number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tion 58 into tens and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50 + 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f of 50 = 25 ( ½ or divide by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f of 8 = 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these togeth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5084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5661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ve a go at this calculation using your knowledge of partitioning and known ha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Q. What is half of 38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f the number you are halving is an even number it will always halve exac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reas if the number is an odd number the answer will always have the fraction of a half in it ( e.g. half of 13 = 6 ½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easiest way to halve odd numbers is to half the even number just before it and then add on a half to that number (e.g. 13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lf of 12 is 6 + ½ = 6 ½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ell done you can now partition numbers to find doubles and halves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  <a:ea typeface="Arial"/>
              </a:rPr>
              <a:t>☺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ain activit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th your partner, roll 2 dice to find 2-digit numbers. Then partition them into tens/units and find the doubles/halves and record in your exercise book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.g. 34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30 +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0 = 60 = 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 = 8 =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refore 34 = 68 (60 + 8) = 17 (15 + 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lease remember to write the long date along with the title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LO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o be able to use partitioning to double or halve numbers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ear 3’s to work on numbers between 1-50 first (x 10) then go onto numbers 50-100. ( x 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ear 4’s to work on numbers between 1-100. (x 1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tension: roll dice 3 times to create 3-digit numbers and find doubles/halves by partitioning into hundreds/tens/units (x 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cc"/>
                </a:solidFill>
                <a:latin typeface="Comic Sans MS"/>
              </a:rPr>
              <a:t>Place value</a:t>
            </a:r>
            <a:endParaRPr b="0" lang="en-US" sz="6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mbers are categorised as being either units/ones, tens, hundreds or thousands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position of the digit within an number shows its value according to its ‘place’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whole numbers the number on the far right is always the units/ones column, next on the left comes the tens, then the thousands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981000"/>
            <a:ext cx="7848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Comic Sans MS"/>
              </a:rPr>
              <a:t>Th H T U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476280"/>
            <a:ext cx="0" cy="482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476280"/>
            <a:ext cx="0" cy="482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476280"/>
            <a:ext cx="0" cy="482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781360"/>
            <a:ext cx="8353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ahoma"/>
              </a:rPr>
              <a:t>Partitioning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titioning is the breaking down of a number into several components according to its place val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.g. 485 = 400 + 80 +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zeros represent a place holder of the other digits ( e.g. tens and units) and without them the number would simply look like a single unit of 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..\..\..\..\Desktop\Maths ITP\</a:t>
            </a:r>
            <a:r>
              <a:rPr b="0" lang="en-GB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placevalue_pc.EX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ffffcc"/>
                </a:solidFill>
                <a:uFillTx/>
                <a:latin typeface="Tahoma"/>
              </a:rPr>
              <a:t>Partitioning and doubling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we need to partition when doubl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partitioning a number we can use known doubles of smaller numbers and then add these together to calculate the ans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double 47 is not a double that most people know of by hear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of you partition it into tens and units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 40 + 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uble 40 is relatively easy = 40x 2 = 8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uble 7 is a known double = 7 x 2 =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d these together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15772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99640" y="1052280"/>
            <a:ext cx="748836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ve a go at this calculation using your knowledge of partitioning and known doubl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Q. What is double 67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ffffcc"/>
                </a:solidFill>
                <a:uFillTx/>
                <a:latin typeface="Tahoma"/>
              </a:rPr>
              <a:t>Partitioning and halving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do we need to partition when halv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partitioning a number we can use known halves of smaller numbers and then add these together to calculate the ans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half of 58????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8:47:58Z</dcterms:created>
  <dc:creator>Kirsty Router</dc:creator>
  <dc:description/>
  <dc:language>en-US</dc:language>
  <cp:lastModifiedBy>Pitchford</cp:lastModifiedBy>
  <dcterms:modified xsi:type="dcterms:W3CDTF">2006-03-27T13:37:44Z</dcterms:modified>
  <cp:revision>6</cp:revision>
  <dc:subject/>
  <dc:title>Slide 1</dc:title>
</cp:coreProperties>
</file>